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3FFE-0F45-4AF7-A901-53DB04C6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5FB-F514-431B-B0C9-E714E1F8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E8BB-E0D0-42E4-8A8D-E853C83E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6168-6B1E-42DB-A60B-0CC067F7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701B-5992-4C6F-AE45-CFA2C635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BE41-43E3-4E00-8358-24DCCBAD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BA79-E5E9-44F7-B54A-FC4A2C19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0989-6203-408A-9C96-D6D4B6EF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425C-3A59-4509-8EFE-88A9E10C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CAD6-8C7E-4B9B-8A8B-9D352105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5421-67F4-4C9D-A862-6C8BBBE3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6ED2-5050-4763-BE4A-AA3192D2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89D5-B021-4F40-B3B6-179EF704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8D9E-3963-483A-892C-ADFC0132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043C-1769-4249-BAD7-4767DB38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4A1A-1D61-416B-BBA0-2DA180FC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A32E-3787-455F-8613-FDCBF3A7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C86B-A95C-409D-B64C-5B08E30B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661-B3C3-49A7-87F1-0DFD31AE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87DE-C446-4125-8B66-728CC764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09DC-E5B7-4511-B125-D9698941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3C81-F2A0-4CC8-BD06-AF766E44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2013-6823-486E-BD90-DA0AF379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D9CE-AAF6-42FE-8559-A1D204B1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7D61-42AA-4A66-B0C0-0BD2BEE283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1940-F10B-4416-867C-9E9162BC98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farm3.static.flickr.com/2223/2308602472_014fec9bef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file:///tmp/home/.config/libreoffice/4/user/gallery/drumroll.wav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4582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Broadway"/>
              </a:rPr>
              <a:t>Burrrrrr… The Climate of Russ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Alison Della Bar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Aaron 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2"/>
          </p:cNvPr>
          <p:cNvSpPr/>
          <p:nvPr/>
        </p:nvSpPr>
        <p:spPr>
          <a:xfrm>
            <a:off x="0" y="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8406"/>
                </a:moveTo>
                <a:lnTo>
                  <a:pt x="16862" y="8406"/>
                </a:lnTo>
                <a:lnTo>
                  <a:pt x="21283" y="3794"/>
                </a:lnTo>
                <a:lnTo>
                  <a:pt x="21283" y="17806"/>
                </a:lnTo>
                <a:lnTo>
                  <a:pt x="16862" y="13194"/>
                </a:lnTo>
                <a:lnTo>
                  <a:pt x="12431" y="13194"/>
                </a:lnTo>
                <a:close/>
              </a:path>
              <a:path fill="darken" w="38876" h="21600">
                <a:moveTo>
                  <a:pt x="22937" y="10800"/>
                </a:moveTo>
                <a:lnTo>
                  <a:pt x="26444" y="10800"/>
                </a:lnTo>
              </a:path>
              <a:path fill="darken" w="38876" h="21600">
                <a:moveTo>
                  <a:pt x="22937" y="8406"/>
                </a:moveTo>
                <a:lnTo>
                  <a:pt x="26444" y="5639"/>
                </a:lnTo>
              </a:path>
              <a:path fill="darken" w="38876" h="21600">
                <a:moveTo>
                  <a:pt x="22937" y="13194"/>
                </a:moveTo>
                <a:lnTo>
                  <a:pt x="26444" y="15961"/>
                </a:lnTo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.00208 0.04024 C 0.00903 0.02683 0.01615 0.01226 0.02309 -0.00647 C 0.04201 -0.05965 0.04705 -0.11167 0.03316 -0.11976 C 0.0191 -0.12901 -0.00799 -0.09179 -0.02691 -0.03838 C -0.03698 -0.0104 -0.04288 0.01619 -0.04497 0.0363 C -0.04792 0.05226 -0.04896 0.06821 -0.04896 0.08694 C -0.04896 0.14683 -0.03594 0.1963 -0.02083 0.1963 C -0.0059 0.1963 0.00712 0.14683 0.00712 0.08694 C 0.00712 0.05896 0.00417 0.03214 -0.00087 0.01365 C -0.00295 -0.00254 -0.00799 -0.01965 -0.01389 -0.03699 C -0.03385 -0.09179 -0.06094 -0.12901 -0.075 -0.11976 C -0.08889 -0.11052 -0.08385 -0.05965 -0.06389 -0.00508 C -0.0559 0.02035 -0.04497 0.04162 -0.03385 0.05619 C -0.02587 0.0696 -0.01684 0.08162 -0.00486 0.09365 C 0.03108 0.13226 0.06701 0.1496 0.07708 0.13365 C 0.08611 0.11746 0.06615 0.07353 0.03003 0.0363 C 0.0151 0.02035 -0.000869999999999999 0.00833 -0.01389 0.00024 C -0.02587 -0.00786 -0.04097 -0.01433 -0.05694 -0.01849 C -0.10087 -0.03167 -0.13889 -0.02774 -0.14184 -0.00647 C -0.14583 0.01365 -0.11285 0.04024 -0.06892 0.05365 C -0.04896 0.05896 -0.02986 0.06151 -0.01493 0.06035 C -0.00191 0.06035 0.01215 0.05758 0.02708 0.05365 C 0.07101 0.04024 0.10417 0.01226 0.1 -0.00786 C 0.09705 -0.02774 0.05903 -0.03306 0.0151 -0.01965 C -0.0059 -0.01317 -0.025 -0.0037 -0.03785 0.00694 C -0.04896 0.0148 -0.0599 0.02428 -0.07187 0.0363 C -0.10694 0.07492 -0.12795 0.11746 -0.11788 0.13365 C -0.10885 0.1496 -0.07187 0.13226 -0.03698 0.0948 C -0.01997 0.0763 -0.0059 0.05758 0.00208 0.04024 Z">
                                      <p:cBhvr>
                                        <p:cTn id="6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Broadway"/>
              </a:rPr>
              <a:t>Overall Clima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The overall climate of Russia is cold… very cold. The land of Russia is covered in snow,ice,and a layer of frost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roadway"/>
              </a:rPr>
              <a:t>permafrost </a:t>
            </a: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in the tundra climate. Russia is covered in snow for 40-240+ days a year. Though the winter is cold and snowy, the summers are warm and rainy. The climate in Russia is like paradise… not. *cue laugh (hahaha)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St. Basil's Christian Cathedral in Winter Snow, Moscow, Russia"/>
          <p:cNvPicPr/>
          <p:nvPr/>
        </p:nvPicPr>
        <p:blipFill>
          <a:blip r:embed="rId2"/>
          <a:stretch/>
        </p:blipFill>
        <p:spPr>
          <a:xfrm>
            <a:off x="4549680" y="0"/>
            <a:ext cx="459432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56264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Broadway"/>
              </a:rPr>
              <a:t>Rain in</a:t>
            </a:r>
            <a:r>
              <a:rPr b="0" lang="en-US" sz="4000" spc="-1" strike="noStrike">
                <a:solidFill>
                  <a:srgbClr val="ee941c"/>
                </a:solidFill>
                <a:latin typeface="Broadway"/>
              </a:rPr>
              <a:t> </a:t>
            </a:r>
            <a:r>
              <a:rPr b="0" lang="en-US" sz="4000" spc="-1" strike="noStrike">
                <a:solidFill>
                  <a:srgbClr val="ff33cc"/>
                </a:solidFill>
                <a:latin typeface="Broadway"/>
              </a:rPr>
              <a:t>Summer…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42200" y="5486400"/>
            <a:ext cx="301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Broadway"/>
              </a:rPr>
              <a:t>Snow in wi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5"/>
          </p:cNvPr>
          <p:cNvSpPr/>
          <p:nvPr/>
        </p:nvSpPr>
        <p:spPr>
          <a:xfrm>
            <a:off x="8381880" y="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8406"/>
                </a:moveTo>
                <a:lnTo>
                  <a:pt x="12848" y="8406"/>
                </a:lnTo>
                <a:lnTo>
                  <a:pt x="17270" y="3794"/>
                </a:lnTo>
                <a:lnTo>
                  <a:pt x="17270" y="17806"/>
                </a:lnTo>
                <a:lnTo>
                  <a:pt x="12848" y="13194"/>
                </a:lnTo>
                <a:lnTo>
                  <a:pt x="8418" y="13194"/>
                </a:lnTo>
                <a:close/>
              </a:path>
              <a:path fill="darken" w="30849" h="21600">
                <a:moveTo>
                  <a:pt x="18923" y="10800"/>
                </a:moveTo>
                <a:lnTo>
                  <a:pt x="22431" y="10800"/>
                </a:lnTo>
              </a:path>
              <a:path fill="darken" w="30849" h="21600">
                <a:moveTo>
                  <a:pt x="18923" y="8406"/>
                </a:moveTo>
                <a:lnTo>
                  <a:pt x="22431" y="5639"/>
                </a:lnTo>
              </a:path>
              <a:path fill="darken" w="30849" h="21600">
                <a:moveTo>
                  <a:pt x="18923" y="13194"/>
                </a:moveTo>
                <a:lnTo>
                  <a:pt x="22431" y="15961"/>
                </a:lnTo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Arial"/>
              </a:rPr>
              <a:t>Subarctic clima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Bitterly cold winters and mild summer, Russia is a very cold 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In Russia, the usual temperature in the winter is 9-21 degr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When it snows in Russia, in most places, the snow doesn’t melt for 200-240 days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Broadway"/>
              </a:rPr>
              <a:t>Tundra Climate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oadway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Broadway"/>
              </a:rPr>
              <a:t>The definition of a tundra climate is a place where trees and growth (plants, animals, etc.) is prevented. Since a tundra climate consists of a cold temperature and little life , Russia is misfortunate to have this a part of their countr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6953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In Russai, there is a place that has a steppe clim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Warm to hot dry summers and (very) cold winter with temperatures of -30 degrees and lower and sometimes heavy snowf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ometimes very strong easterly winds, called Buran can occur, bringing freezing cold temperatures and snowstor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133720" y="380880"/>
            <a:ext cx="49528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teppe climat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05520" cy="3532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029200" y="0"/>
            <a:ext cx="4114800" cy="3733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0" y="3505320"/>
            <a:ext cx="4019400" cy="33526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-360"/>
            <a:ext cx="854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NOW SCULPTURES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Awesome snow sculpture Seen On www.coolpicturegallery.us"/>
          <p:cNvPicPr/>
          <p:nvPr/>
        </p:nvPicPr>
        <p:blipFill>
          <a:blip r:embed="rId5"/>
          <a:stretch/>
        </p:blipFill>
        <p:spPr>
          <a:xfrm>
            <a:off x="6172200" y="3733920"/>
            <a:ext cx="3200400" cy="3124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Awesome snow sculpture Seen On www.coolpicturegallery.us"/>
          <p:cNvPicPr/>
          <p:nvPr/>
        </p:nvPicPr>
        <p:blipFill>
          <a:blip r:embed="rId6"/>
          <a:stretch/>
        </p:blipFill>
        <p:spPr>
          <a:xfrm>
            <a:off x="3809880" y="3581280"/>
            <a:ext cx="2667240" cy="3276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2895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THE END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">
            <a:hlinkClick r:id="rId2"/>
          </p:cNvPr>
          <p:cNvSpPr/>
          <p:nvPr/>
        </p:nvSpPr>
        <p:spPr>
          <a:xfrm>
            <a:off x="0" y="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8406"/>
                </a:moveTo>
                <a:lnTo>
                  <a:pt x="15421" y="8406"/>
                </a:lnTo>
                <a:lnTo>
                  <a:pt x="19842" y="3794"/>
                </a:lnTo>
                <a:lnTo>
                  <a:pt x="19842" y="17806"/>
                </a:lnTo>
                <a:lnTo>
                  <a:pt x="15421" y="13194"/>
                </a:lnTo>
                <a:lnTo>
                  <a:pt x="10991" y="13194"/>
                </a:lnTo>
                <a:close/>
              </a:path>
              <a:path fill="darken" w="35994" h="21600">
                <a:moveTo>
                  <a:pt x="21496" y="10800"/>
                </a:moveTo>
                <a:lnTo>
                  <a:pt x="25004" y="10800"/>
                </a:lnTo>
              </a:path>
              <a:path fill="darken" w="35994" h="21600">
                <a:moveTo>
                  <a:pt x="21496" y="8406"/>
                </a:moveTo>
                <a:lnTo>
                  <a:pt x="25004" y="5639"/>
                </a:lnTo>
              </a:path>
              <a:path fill="darken" w="35994" h="21600">
                <a:moveTo>
                  <a:pt x="21496" y="13194"/>
                </a:moveTo>
                <a:lnTo>
                  <a:pt x="25004" y="15961"/>
                </a:lnTo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9:03:52Z</dcterms:created>
  <dc:creator> </dc:creator>
  <dc:description/>
  <dc:language>en-US</dc:language>
  <cp:lastModifiedBy> </cp:lastModifiedBy>
  <dcterms:modified xsi:type="dcterms:W3CDTF">2010-12-20T19:21:25Z</dcterms:modified>
  <cp:revision>5</cp:revision>
  <dc:subject/>
  <dc:title>Burrrrrr… The Climate of Russia</dc:title>
</cp:coreProperties>
</file>